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8F1-CE2A-4146-A626-45E34E37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5BF-7BD8-4BD8-A5E9-CC95105F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E851D-5655-43B9-ADE4-C9C3BEBD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810C2-5274-4416-9072-2017E0B9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C6EF5-FE18-480F-A0E3-9AE83D1C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D2F94-B869-4462-9B34-29CE684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CCFAA-BD95-4DCC-854C-D400DDC9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9EADA-E9EE-4FF6-8E21-3A7AE496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E4F7E-C2F0-4C6D-95F3-3E33B2EE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EFF4E-31D1-42A0-874C-8807BA0E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67AF2-F879-4BEB-9BDE-FF45E756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7B62D-7FE6-4221-87FC-5B08102D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E4F-3544-40DA-B1C8-04D87CD2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6A1A6-87BE-423A-9EF1-11671745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843EF-1D57-4ABE-A028-6FE60D16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33742-9F14-4654-9FD8-EE215009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228EF-FF51-404E-B252-0A3D6F1B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7AB5C-A44C-4717-8A2D-31696F7A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2443B-C7F7-4913-877F-CED8ED98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0E48C-6E1A-4B21-8470-080F69BA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E1479-9F4B-45AC-903C-77E36E70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3847F-2468-4620-AB41-E57B661F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18951-263D-41A3-B5E4-D79DEDCE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51A-365D-4E5B-8460-233DD183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A2876-3600-4CCA-880D-24C537A7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A26A2-E3C5-44E2-AA8B-C24D69C2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6EAF0-B0A9-4625-B876-5C23333D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5AFF0-2AB4-41AC-93A3-8BE716AF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335D3-378C-40E8-BF04-3540CBD9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17509-3610-4BDD-B664-55F1309A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1E0D5-F977-4A45-8FD6-CC92E022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31385-2F22-444D-9620-EEE462D8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F6219-12A0-4F20-8478-5DC2740F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3931C-890A-4CC9-8A68-E6F7FE01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4CAF-F15A-4DE4-845F-FE536E66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79111-8EB6-473C-BCFC-650E81B1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8FD46-5C8A-40DB-AB3C-6D96F449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42ED5-4808-4F50-BE86-7AECBDBC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4EA6A-3E4D-446F-9785-31B04F4C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EBB10-82BC-4380-B8BF-362D6C4D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058BE-C41C-4A8C-A3EC-78B7487F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54CE6-5A88-4B37-AEF9-6B2BEFA1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47186-AAC1-43A9-8E94-F2F4A079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D4D0F-C7D8-4C99-A478-A34F0A32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AF833-CEAA-4242-8C4C-3342048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A202-42B5-447B-906F-EAEA73F0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29BE2-9870-4A89-BA6D-0EB3B736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B21C6-795A-468C-B6E0-553BA232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DB529-B536-470D-82D8-6A11D551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E1074-A649-40C5-825A-EC92DEE1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3AB6B-A998-4FE5-A123-32A42F30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8E80F-4604-402B-9B95-9E295ED3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27ED7-9EED-4A2C-84B4-D5F10EDD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8F056-B424-481A-BA41-3FB9B8B8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3A3C8-BCD1-4BFD-99DE-A3A77E13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31C0C-BBC2-402C-82C2-5ECF5D2A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09FD-ABE0-4D73-AFBE-E63359A7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CC156-05DA-4BA6-BFDE-3755B41C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EFE78-9A56-4B4A-AE41-51F9C2DF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B77AD-53A5-4FE6-AEC6-EECF3FB6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1E863-E8DD-42C7-B299-6B374468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21BE5-1E1E-4C50-BC70-5C38060F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55CF2-D686-4456-AAFE-E0AB4AC4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BF273-F056-4000-BB8D-1E9DF007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C20AC-A282-46C3-80EC-4E3F587D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AE55D-DD76-41A3-A6D1-D52C25B8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4EC49-E975-4E9B-A3F7-E61EDAA5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03F4-8C26-41B3-930C-C3319F95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D4CB0-148C-462A-BC4E-B7FA18D2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A55FE-2EAD-41A7-8D10-2939F08D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5638F-BB99-4F97-93F5-E13E70E4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79033-6A0B-4E52-8E8C-06DFDCF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2A85F9-48F8-41E5-A5C0-A88CB846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7A9EC-9039-4E39-AC54-2403DF2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480D5-8D61-4174-B3C0-146244E3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89690-A331-43FA-8EBE-F7BE404E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C72C5-FCAA-410A-B1F7-7838E1FB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E21B9-1748-4454-B535-5FA08A3B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8BCE-BA02-478E-A49C-A9445F87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77E29-AA6B-4EFE-9B07-5D1EA259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3F08C-7DFF-44DB-9E31-73194E15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AAB7D-AA28-47E7-987D-FFFE3E76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A6500-A7F2-40CF-97FE-CE5DA0A9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C8330-8C1E-41C6-905F-A35DA7C2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B5BF0-78A5-426B-BC4C-DB59D5CB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266E7-889E-4DC7-98C8-949EAC3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E5E96-F7B4-4B2E-98B9-3390749C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30491-0435-4A33-BB1B-9FB310B6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E04E5-3FA9-4E8C-8E86-A61EF555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767D-66CB-45F9-8C99-090CF69A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0899A-9EFB-468D-85C4-0E7A22BF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708A2-C11E-42E7-A767-E82BDC9F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10F54-C8F9-426C-9DCA-2DD2DC24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22457-816C-49DB-9646-8B8F237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AF47A-7FBA-418A-B5F7-C78B8E72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6758D-C5D5-4E6D-9497-D0D4AD72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E909B-E03F-4175-9814-4D861652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34D5B-E44F-429E-A01F-A6F28796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AD4B9-7F02-4253-9559-92152075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4E6C4-5E3D-489D-8768-1B5453F5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C745-F588-4E7C-99AF-573251D3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1F4E9-0942-4D33-9221-CCF9D4FE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3156E-EF7A-4E14-8DE1-3378A15A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8A2B8-6117-42B2-A3B6-56046784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9FC00-E5DA-48E7-82FD-8858467E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089C5-E14C-416B-99CF-52275E9E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3F0CD-D47B-4F54-9E9C-A35ED62B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E778F-8A1B-463B-92C4-1E891D18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B3AA5-61E1-4756-8431-29F82C09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99797-CA0A-4ED4-89EB-0B7F1D3E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F772BA-EDD9-4795-994F-7BE758EC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F5E-1E4A-4DC5-A85F-2A20B114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4632-545D-47BC-BC4A-D87C453A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CB7FD-BC8B-4F33-9D21-C4A1A80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898F8-DB40-4537-B735-E30BB632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DA00D-0113-4F9B-B4D9-6695A04C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D50E8-DFE0-4461-953D-105631BD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E8DCA6-C6FC-4F50-AC4D-67E6BF9B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75A6B-6E8A-4266-AC33-051F3029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0AC548-98A5-4D5D-BBE2-B72F20FC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40BAD-F287-4500-A4D5-7EABF836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A6D7E-4237-4E07-B319-7A67EB70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CFC46-839B-4B0C-99E9-14D3F2B4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7D10-E4C0-46EF-9975-98A78ED8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3B224-C658-4B08-8400-782FA750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0F473-7A9C-47F2-8138-8B79D986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1D929-CEE3-431E-9263-8D48616B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09339-AEE7-4076-8EF6-3D49CDF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6A06A-65AD-4856-A0AC-088C649C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84E3C-45F8-4C81-AB66-85A702C3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4163C3-17BE-4325-802E-726FCB2E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239EE-990F-4FEC-BD68-44096417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2E650-80CF-48AE-802E-0F0EB867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95EE7A-2866-4DE8-929E-897C9D24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4DED-8A3C-4C7D-9860-B3F3D243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2D790-6F6A-4D06-A638-716E79CA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333AAE-0211-4CC0-97AE-0CE039F8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C735D-A5F1-488B-BC97-CD4F5199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AB8AC5-F04A-45F1-9409-EDFFE0A6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10443-0115-424B-B556-51C886BF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43565F-DF61-4755-A310-581C2F9E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AD473-8EB9-4F32-85EC-864A34EC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07E371-2603-4D2E-B50A-D0DA49FF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469FA7-A2C3-4AE8-BB5D-2600B587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59696-49CD-4CF7-BB31-A41470B3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639C-87F8-4F7F-86EB-F16DE5C7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DC8950-ED86-4346-A4C1-7BC37289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E3EA9-8490-41E2-8D12-8A8F4B59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0D9AAE-494B-4B6A-83B1-259D1F7E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374A5D-2FC1-4D84-812F-AD452379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F99D4-58B0-408A-BC3F-FA1330C5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C9BAB-27CC-4FEE-AF0B-81988FE5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B8CB1-2F75-424C-824E-9A148751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3E3699-7D62-4374-93CC-8F550294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6B52C7-78B1-4A26-8B6D-2A48D3F3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39158-0F0A-4C42-B776-EABF9B55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C388-7C98-4AC2-BC60-97AE89E0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C1B2D-8D8E-4567-8361-79DB2DC2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068C4-DEDE-48F1-B4A6-033B1953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7B6ED3-0401-458F-9E3C-741118AA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B5B8D4-4182-4C14-81F4-B30D6463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640C1E-4D11-4708-BE6B-84F7782C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BA918-9960-4237-9DFF-CFE5E855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2C107-5AC4-4564-8787-5473AFEB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2A9940-3329-440E-BEF5-D5129224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AA166A-4894-4937-99B2-9AF5AAAC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1A2E5-C684-4849-838C-8570D377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B88E-7C9E-44EC-8DAB-36BA79FD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C786D-AB23-451D-B0F9-DC22A61D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9AF6D-0140-4783-9B00-3F0F33BA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B3CFF-303A-4C26-84E9-DC8BC721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1F4FE-7030-42DC-B19D-FEF2FEB9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D26C-F9F6-4FA5-8A2D-A5C54CD4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17C9E-1AB3-407F-B597-0F411D55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D49A5-5780-4E28-B84B-F20E7DBF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40B-AFBA-45AA-95FC-2B970241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E1C9-97CE-4DB2-BD2C-EF236E78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D1DD-3366-4958-8B4E-E0B995FD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AF273-D270-4B21-BC66-01E1E66B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2767-718D-4755-9C45-B4ED88A4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0DDB-5852-4547-8D62-11B2BC00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DD00A-33FD-4C99-84BD-770CD8F8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4C63-0131-4DB0-B1FE-EF8190B9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FCBF-02F7-46C1-8C87-7F06A2B9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C587-A5C7-4ABE-9A9A-F3411424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E3296-0791-49A5-AC0E-9E1570D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96F-E683-41D5-B895-61787E2F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5E540-2999-4E60-8CEE-D49C7507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272FF-3B29-40B8-809A-582A372A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0C507-0BF2-4F57-ACD1-60CE5188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10BA-8C22-4A49-99A5-49CF67ED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2835F-5C3A-4143-8904-88537F1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E51B8-05F5-41A1-9DAB-2DB7169D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9249F-A31A-4774-AE75-4A8D3749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BC860-5748-4B31-8B42-35B38041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CA0C-EFDD-482B-9FA5-EDECD2C1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C9F22-B198-4C31-8D7A-20B2E7A8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034-0D7A-42EB-9808-F7DAD5E8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624FD-4DAD-4EFE-9E1E-53246882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B889E-81B5-4B8E-85FE-A5B3C6DE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5105-A395-40AB-AB99-CAD83B9A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37CA4-6403-4A39-93D0-A428AD3F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4F1C1-C2B7-4591-8263-3E696EAE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76F7-B06A-46E5-BD9E-D78AD6AD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A395A-7D9E-40D0-8BAC-5A8313BF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6572-0B4A-4CFD-9063-DC5D96FF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6AE60-5298-4E82-9808-87AE01EE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578E8-38D6-4F9B-87F4-495B3FE5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3AC-EA80-4EFD-841D-0CE19A02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1ADE7-C161-461B-A17D-BBF67BD2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BE840-E620-43CD-AAA0-8764DFD7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1C482-A24F-496A-9D28-6D5536EC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C545B-524E-4448-BEB7-C1E51637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0DB4-25F0-43D1-AB80-68970A19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DED43-FA48-469F-A08C-57B689E5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28DCA-1A32-4EDA-91C4-F4E319B0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AEFFE-8073-48BD-995E-2D2E888D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7CB6E-6787-46CA-8334-7EEF87A0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9EF8E-EE59-4EF4-B170-1737B413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0A5-D357-4977-A811-2FC250AC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B9DD5-2F7F-43A1-98B6-3A9A6E87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3B90B-8A29-462F-8634-8BEB3462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456CD-AB5A-4784-98AA-3C46D250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EDBE8-E87C-4443-996C-D3540F76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C7434-FD49-4962-ACE7-86667480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E6BFC-3560-4E39-92B9-0D671892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4EAB2-BE02-4F09-9206-A53E5E1E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6EA4F-C49D-4558-9DDA-0827A008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0C554-3FC9-4EC3-87CE-67FC3F6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60EB5-E0E8-421C-B16C-67342493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6F1-A684-4060-AC38-F4E12082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6A510-B192-4598-9618-1EA1200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445A3-B8BE-463B-86A5-90A5FFA8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65765-EF1A-4BA7-BE3C-83251813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A1F7F-275B-4B52-9658-2CAD3974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43B71-BF0C-4A9C-A8E8-079447E3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4749C-4289-4BD7-9018-A79FF19E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2CC10-DA73-43D1-AA0A-977B3476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C2397-5B1E-4BF5-A4EB-0576EB37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D68BD-A9D1-41AF-BB24-DBF7636D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4F8D4-F5A3-438E-B0F8-FE4F7371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7BA-2D8C-45B7-AD1E-8B3E229F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EA3D0-9D14-42A1-A7A5-0181C12D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33941-D068-4583-9E18-F7F92D34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09B73-CED7-4254-8C07-2399AFE3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71CA9-D477-420E-A617-0ED9595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7CB43-C8C6-4F9A-8AC8-642A03A4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FFDF9-279A-4095-B084-A18723FF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BFC5E-85F1-4EE5-97BE-79E38BFF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1F8F5-1EF3-42A2-8601-8DD4384A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7DCA2-C4A4-4376-B19F-B0BFB2D0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50496-539E-4FAD-B033-F75AABE5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9B1A-C747-47E5-85C8-827DD3816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F704-9B81-4EFC-A5BD-480F1F7898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4EEF-0D6C-4379-9E5C-7172D8BE0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4595-C3F4-43E9-A88E-9D92DFDF0D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7A81-FC8D-41E6-BBEC-2549D102A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56F1-692C-43D7-BFD1-B9879FB001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ADBE-B292-4979-9DB6-98D1D5D2EB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D8CE-078E-4C77-873B-AD54C9069E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B10A-E97F-4A80-9F40-330C3894F0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1AA5-80F3-4A72-BC27-F64C26E7E0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D8C6-6A0A-4DF8-968A-0C953FE251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2B82-5834-4B16-9D26-F01E0F1577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5DCF-BE5D-4B0B-860C-9466302B15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25A3-D559-4D6F-9B5F-AE6AA0CC9C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CEB1-73FE-441A-BF4E-1B7E40BF31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D86D-22EF-4AF1-AB6A-246AD09EF5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7D05-E52C-4BFF-9B91-49965DD188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38F9-2BE7-4C10-81FA-603FF4F4D0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34EE-5705-45CB-BB21-A829CC8451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BF72-365D-4F7A-AAB2-959C74526B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F9FD-E721-40C8-AF93-86ACA7280E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15FF-064B-47FD-AA9C-FFC3E5407D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FC31-EAA0-4785-8253-9AD36E8D78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323A-3F7D-4AF6-A1BA-9C0D18CFC8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FDEC-706C-452E-B81B-A268FF8DD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1B80-8D77-4B09-A3A6-5E5BD26467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1B3C-B9EC-4143-888A-3FFDBA8B49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1BD6-10C8-4019-8F0E-AF5D76809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7CAB-035F-42D5-8D43-79E8A6FAB9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9C3A-1627-44C8-9A35-E7EEC95A20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26C4-635A-4208-BA57-23CB07947E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4D6E-05F9-45BB-87A9-32620F2CA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0926-2D1B-4391-BAC9-BBCA1AE552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BBE2-C9AC-42E2-B580-8AFCA9B1BB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CDD7-57FE-49D4-A3D6-130B822F98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9436-E986-444D-A698-3F95112A7C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02A5-78C6-4B86-84D9-616B74D89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27C4-39E0-4A1E-97ED-9288670DFD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09BD-B93C-40F1-B8DA-582FCF3AC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D5DE-07E4-45EB-B9A3-48B60EE3B9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3076"/>
          <p:cNvGrpSpPr/>
          <p:nvPr/>
        </p:nvGrpSpPr>
        <p:grpSpPr>
          <a:xfrm>
            <a:off x="297000" y="2200320"/>
            <a:ext cx="8605800" cy="1805040"/>
            <a:chOff x="297000" y="2200320"/>
            <a:chExt cx="8605800" cy="1805040"/>
          </a:xfrm>
        </p:grpSpPr>
        <p:pic>
          <p:nvPicPr>
            <p:cNvPr id="1025" name="图片 1" descr=""/>
            <p:cNvPicPr/>
            <p:nvPr/>
          </p:nvPicPr>
          <p:blipFill>
            <a:blip r:embed="rId1"/>
            <a:stretch/>
          </p:blipFill>
          <p:spPr>
            <a:xfrm>
              <a:off x="2214720" y="2200320"/>
              <a:ext cx="47145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2" descr=""/>
            <p:cNvPicPr/>
            <p:nvPr/>
          </p:nvPicPr>
          <p:blipFill>
            <a:blip r:embed="rId2"/>
            <a:stretch/>
          </p:blipFill>
          <p:spPr>
            <a:xfrm>
              <a:off x="297000" y="3400560"/>
              <a:ext cx="61624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图片 3" descr=""/>
            <p:cNvPicPr/>
            <p:nvPr/>
          </p:nvPicPr>
          <p:blipFill>
            <a:blip r:embed="rId3"/>
            <a:stretch/>
          </p:blipFill>
          <p:spPr>
            <a:xfrm>
              <a:off x="6654960" y="3433680"/>
              <a:ext cx="2247840" cy="57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0" name="组合 4099"/>
          <p:cNvGrpSpPr/>
          <p:nvPr/>
        </p:nvGrpSpPr>
        <p:grpSpPr>
          <a:xfrm>
            <a:off x="252360" y="1971720"/>
            <a:ext cx="8637480" cy="2914560"/>
            <a:chOff x="252360" y="1971720"/>
            <a:chExt cx="8637480" cy="2914560"/>
          </a:xfrm>
        </p:grpSpPr>
        <p:pic>
          <p:nvPicPr>
            <p:cNvPr id="1031" name="图片 1" descr=""/>
            <p:cNvPicPr/>
            <p:nvPr/>
          </p:nvPicPr>
          <p:blipFill>
            <a:blip r:embed="rId1"/>
            <a:stretch/>
          </p:blipFill>
          <p:spPr>
            <a:xfrm>
              <a:off x="252360" y="1971720"/>
              <a:ext cx="863748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Picture 1" descr=""/>
            <p:cNvPicPr/>
            <p:nvPr/>
          </p:nvPicPr>
          <p:blipFill>
            <a:blip r:embed="rId2"/>
            <a:stretch/>
          </p:blipFill>
          <p:spPr>
            <a:xfrm>
              <a:off x="1763640" y="3846600"/>
              <a:ext cx="676908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3" name="直接连接符 4100"/>
          <p:cNvSpPr/>
          <p:nvPr/>
        </p:nvSpPr>
        <p:spPr>
          <a:xfrm>
            <a:off x="1979640" y="3846600"/>
            <a:ext cx="1512720" cy="6620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4101"/>
          <p:cNvSpPr/>
          <p:nvPr/>
        </p:nvSpPr>
        <p:spPr>
          <a:xfrm flipH="1">
            <a:off x="1979640" y="3832200"/>
            <a:ext cx="2016000" cy="7491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4102"/>
          <p:cNvSpPr/>
          <p:nvPr/>
        </p:nvSpPr>
        <p:spPr>
          <a:xfrm>
            <a:off x="6516720" y="3789360"/>
            <a:ext cx="165564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4103"/>
          <p:cNvSpPr/>
          <p:nvPr/>
        </p:nvSpPr>
        <p:spPr>
          <a:xfrm flipH="1">
            <a:off x="5940000" y="3789360"/>
            <a:ext cx="2016360" cy="7491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09440" y="1033560"/>
            <a:ext cx="8923320" cy="47908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116000" y="2708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116000" y="3789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1042920" y="4869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38240" y="1019160"/>
            <a:ext cx="8866080" cy="48196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3276720" y="2952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2124000" y="49849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3276720" y="53006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109440" y="1819440"/>
            <a:ext cx="8923320" cy="3219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6458040" y="4005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7812000" y="4005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6877080" y="45370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8101080" y="45370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17:54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